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158413" cy="8305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F11-5B0A-4D3B-8EB7-4F86DD6D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80132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822-4E57-448D-B556-897EA2D6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80132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80132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300-8AD8-4D2F-96FC-CB3EE0FF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93788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93788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80132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80132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801320"/>
            <a:ext cx="294408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672-9C29-4878-9678-5B4E06A5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937880"/>
            <a:ext cx="914400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691-0ABF-4D04-8E9C-E3A25A86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91440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CFA-4A02-4C9E-8B48-06C7CEDC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133-69E5-4C83-8787-0E5DC030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BF6-237E-4036-A669-F3EFDFC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33000"/>
            <a:ext cx="91440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B2C-4A12-4684-8E6C-0ABB67E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80132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26E-9B12-4395-8D70-48F706F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80132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BDF-C891-4396-B04E-8148CAA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937880"/>
            <a:ext cx="44622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80132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5B3-51FE-4EFB-9638-936F5E22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3300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937880"/>
            <a:ext cx="91440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697880"/>
            <a:ext cx="237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697880"/>
            <a:ext cx="3216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697880"/>
            <a:ext cx="237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6EE7-E484-4C56-B34D-6DF1C737D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MSOfficePNG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33440" y="1257480"/>
            <a:ext cx="2718000" cy="146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MSOfficePNG(1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463840" y="4648320"/>
            <a:ext cx="271764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MSOfficePNG(2)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4724280" y="5530680"/>
            <a:ext cx="2718000" cy="15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MSOfficePNG(3).png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6699240" y="3530520"/>
            <a:ext cx="2705040" cy="1625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MSOfficePNG(4).png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5543640" y="2190600"/>
            <a:ext cx="2755800" cy="1562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MSOfficePNG(5).png"/>
          <p:cNvPicPr/>
          <p:nvPr/>
        </p:nvPicPr>
        <p:blipFill>
          <a:blip r:embed="rId6">
            <a:alphaModFix amt="0"/>
          </a:blip>
          <a:stretch/>
        </p:blipFill>
        <p:spPr>
          <a:xfrm>
            <a:off x="4273560" y="3772080"/>
            <a:ext cx="2755800" cy="154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MSOfficePNG(6).png"/>
          <p:cNvPicPr/>
          <p:nvPr/>
        </p:nvPicPr>
        <p:blipFill>
          <a:blip r:embed="rId7">
            <a:alphaModFix amt="0"/>
          </a:blip>
          <a:stretch/>
        </p:blipFill>
        <p:spPr>
          <a:xfrm>
            <a:off x="647640" y="2781360"/>
            <a:ext cx="2692440" cy="142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SOfficePNG(7).png"/>
          <p:cNvPicPr/>
          <p:nvPr/>
        </p:nvPicPr>
        <p:blipFill>
          <a:blip r:embed="rId8">
            <a:alphaModFix amt="0"/>
          </a:blip>
          <a:stretch/>
        </p:blipFill>
        <p:spPr>
          <a:xfrm>
            <a:off x="5060880" y="1104840"/>
            <a:ext cx="273060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MSOfficePNG(8).png"/>
          <p:cNvPicPr/>
          <p:nvPr/>
        </p:nvPicPr>
        <p:blipFill>
          <a:blip r:embed="rId9">
            <a:alphaModFix amt="0"/>
          </a:blip>
          <a:stretch/>
        </p:blipFill>
        <p:spPr>
          <a:xfrm>
            <a:off x="2635200" y="2476440"/>
            <a:ext cx="267984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MSOfficePNG(9).png"/>
          <p:cNvPicPr/>
          <p:nvPr/>
        </p:nvPicPr>
        <p:blipFill>
          <a:blip r:embed="rId10">
            <a:alphaModFix amt="0"/>
          </a:blip>
          <a:stretch/>
        </p:blipFill>
        <p:spPr>
          <a:xfrm>
            <a:off x="1339920" y="5759280"/>
            <a:ext cx="2705040" cy="1460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1"/>
          <p:cNvSpPr/>
          <p:nvPr/>
        </p:nvSpPr>
        <p:spPr>
          <a:xfrm>
            <a:off x="2374920" y="203040"/>
            <a:ext cx="52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Delegates Wan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565360" y="26676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Picking a Vice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565360" y="266760"/>
            <a:ext cx="52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Deb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town_hall_debate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362320" y="4000680"/>
            <a:ext cx="5405400" cy="3382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lipboard(4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7200" y="1003320"/>
            <a:ext cx="3755880" cy="269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image647625g[1].jp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5791320" y="958680"/>
            <a:ext cx="3419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565360" y="266760"/>
            <a:ext cx="52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October 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lipboard(3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4160" y="1943280"/>
            <a:ext cx="53845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536840" y="48276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Ways to get the Nomin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V</a:t>
            </a:r>
            <a:r>
              <a:rPr b="0" lang="en-US" sz="3600" spc="-1" strike="noStrike">
                <a:solidFill>
                  <a:srgbClr val="0000ff"/>
                </a:solidFill>
                <a:latin typeface="Arial - 36"/>
              </a:rPr>
              <a:t>ot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797280" y="21589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Closed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3403440" y="2603520"/>
            <a:ext cx="3175200" cy="4610160"/>
            <a:chOff x="3403440" y="2603520"/>
            <a:chExt cx="3175200" cy="4610160"/>
          </a:xfrm>
        </p:grpSpPr>
        <p:sp>
          <p:nvSpPr>
            <p:cNvPr id="55" name="TextBox 3"/>
            <p:cNvSpPr/>
            <p:nvPr/>
          </p:nvSpPr>
          <p:spPr>
            <a:xfrm>
              <a:off x="3593880" y="2654280"/>
              <a:ext cx="29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Pros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C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4"/>
            <p:cNvSpPr/>
            <p:nvPr/>
          </p:nvSpPr>
          <p:spPr>
            <a:xfrm>
              <a:off x="4863960" y="2603520"/>
              <a:ext cx="0" cy="461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traight Connector 5"/>
            <p:cNvSpPr/>
            <p:nvPr/>
          </p:nvSpPr>
          <p:spPr>
            <a:xfrm flipH="1">
              <a:off x="3403440" y="3073320"/>
              <a:ext cx="317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536840" y="48276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Ways to get the Nomin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V</a:t>
            </a:r>
            <a:r>
              <a:rPr b="0" lang="en-US" sz="3600" spc="-1" strike="noStrike">
                <a:solidFill>
                  <a:srgbClr val="0000ff"/>
                </a:solidFill>
                <a:latin typeface="Arial - 36"/>
              </a:rPr>
              <a:t>ot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924360" y="215892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Open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6"/>
          <p:cNvGrpSpPr/>
          <p:nvPr/>
        </p:nvGrpSpPr>
        <p:grpSpPr>
          <a:xfrm>
            <a:off x="3403440" y="2603520"/>
            <a:ext cx="3175200" cy="4610160"/>
            <a:chOff x="3403440" y="2603520"/>
            <a:chExt cx="3175200" cy="4610160"/>
          </a:xfrm>
        </p:grpSpPr>
        <p:sp>
          <p:nvSpPr>
            <p:cNvPr id="61" name="TextBox 3"/>
            <p:cNvSpPr/>
            <p:nvPr/>
          </p:nvSpPr>
          <p:spPr>
            <a:xfrm>
              <a:off x="3593880" y="2654280"/>
              <a:ext cx="29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Pros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C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4"/>
            <p:cNvSpPr/>
            <p:nvPr/>
          </p:nvSpPr>
          <p:spPr>
            <a:xfrm>
              <a:off x="4863960" y="2603520"/>
              <a:ext cx="0" cy="461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5"/>
            <p:cNvSpPr/>
            <p:nvPr/>
          </p:nvSpPr>
          <p:spPr>
            <a:xfrm flipH="1">
              <a:off x="3403440" y="3073320"/>
              <a:ext cx="317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lipboard(2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2600" y="723960"/>
            <a:ext cx="10160280" cy="6664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752480" y="152280"/>
            <a:ext cx="69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Primary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536840" y="48276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Ways to get the Nomin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V</a:t>
            </a:r>
            <a:r>
              <a:rPr b="0" lang="en-US" sz="3600" spc="-1" strike="noStrike">
                <a:solidFill>
                  <a:srgbClr val="0000ff"/>
                </a:solidFill>
                <a:latin typeface="Arial - 36"/>
              </a:rPr>
              <a:t>ot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924360" y="2158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 - 24"/>
              </a:rPr>
              <a:t>Cau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3403440" y="2603520"/>
            <a:ext cx="3175200" cy="4610160"/>
            <a:chOff x="3403440" y="2603520"/>
            <a:chExt cx="3175200" cy="4610160"/>
          </a:xfrm>
        </p:grpSpPr>
        <p:sp>
          <p:nvSpPr>
            <p:cNvPr id="69" name="TextBox 3"/>
            <p:cNvSpPr/>
            <p:nvPr/>
          </p:nvSpPr>
          <p:spPr>
            <a:xfrm>
              <a:off x="3593880" y="2654280"/>
              <a:ext cx="29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Pros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 - 24"/>
                </a:rPr>
                <a:t>C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traight Connector 4"/>
            <p:cNvSpPr/>
            <p:nvPr/>
          </p:nvSpPr>
          <p:spPr>
            <a:xfrm>
              <a:off x="4863960" y="2603520"/>
              <a:ext cx="0" cy="461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5"/>
            <p:cNvSpPr/>
            <p:nvPr/>
          </p:nvSpPr>
          <p:spPr>
            <a:xfrm flipH="1">
              <a:off x="3403440" y="3073320"/>
              <a:ext cx="317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20080205_055020_colorado_dem_caucus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4160" y="-851040"/>
            <a:ext cx="10159920" cy="87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clipboard(1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560" y="717480"/>
            <a:ext cx="10159920" cy="66643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828800" y="12708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Caucus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536840" y="48276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Ways to get the Nomin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Arial - 36"/>
              </a:rPr>
              <a:t>S</a:t>
            </a:r>
            <a:r>
              <a:rPr b="0" lang="en-US" sz="3600" spc="-1" strike="noStrike">
                <a:solidFill>
                  <a:srgbClr val="0000ff"/>
                </a:solidFill>
                <a:latin typeface="Arial - 36"/>
              </a:rPr>
              <a:t>uper delegates (Dems on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superdelegates_sac0213cd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8320" y="2089080"/>
            <a:ext cx="635004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616120" y="22860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b"/>
                </a:solidFill>
                <a:latin typeface="Arial - 36"/>
              </a:rPr>
              <a:t>Nomination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gall.convention04.gi[1]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30120" y="1104840"/>
            <a:ext cx="939960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8:22:02Z</dcterms:created>
  <dc:creator>Brent J. Freccia</dc:creator>
  <dc:description/>
  <dc:language>en-US</dc:language>
  <cp:lastModifiedBy>Brent J. Freccia</cp:lastModifiedBy>
  <dcterms:modified xsi:type="dcterms:W3CDTF">2010-01-26T18:22:36Z</dcterms:modified>
  <cp:revision>2</cp:revision>
  <dc:subject/>
  <dc:title>Slide 1</dc:title>
</cp:coreProperties>
</file>